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2E9A-F888-493A-9335-B17E7D8A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BCB-9838-4552-84AA-FB0BD945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DE02-04FD-4500-B9FE-DF564879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A79-616A-40B6-94F8-624FF3C5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93D-0D91-48AB-9BE7-360DADB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933C-C355-42ED-AAE9-A678DB81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004-FEB4-4EB3-98CD-1A8550CE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22C-6EB4-4F19-9884-98FA6312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6450-5CE0-4F12-9DFD-F685B58C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B1C-E563-42BD-BE18-B43FB302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B280-BF44-48B5-BA41-13BA7D6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8C9-E46F-46D4-824B-03229424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0FD4-39FE-447D-BD25-5CC53AAF8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3505320"/>
            <a:ext cx="7162920" cy="2438280"/>
          </a:xfrm>
          <a:prstGeom prst="rect">
            <a:avLst/>
          </a:prstGeom>
          <a:solidFill>
            <a:srgbClr val="fbff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2590920"/>
            <a:ext cx="7162920" cy="838080"/>
          </a:xfrm>
          <a:prstGeom prst="rect">
            <a:avLst/>
          </a:prstGeom>
          <a:solidFill>
            <a:srgbClr val="ccff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838080"/>
            <a:ext cx="7162920" cy="1676520"/>
          </a:xfrm>
          <a:prstGeom prst="rect">
            <a:avLst/>
          </a:prstGeom>
          <a:solidFill>
            <a:srgbClr val="cff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-7668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GMOD @ Arthropod Genomic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7806600" y="14983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8174520" y="28126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78000" y="990720"/>
            <a:ext cx="452772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727360" y="838080"/>
            <a:ext cx="56548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 7-9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Contributions to Genom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Elsik, Christopher Childers, Darren H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16240" y="1668600"/>
            <a:ext cx="6067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7:30-9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do Databases and Integration with GMO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t Cain, Dave C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0" y="2590920"/>
            <a:ext cx="57996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11:25-11:45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cated arthropod genes and ways to fin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21520" y="4423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63000" y="3505320"/>
            <a:ext cx="4730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 5-6:30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ative annotation of Drosophilid dicistronic g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4041720"/>
            <a:ext cx="6340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urday 10-11:30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lete System For Community Genome Anno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: Database Resources for Emerging Model Org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ive genomics and database construction for Lepidopt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located Arthropod genes, and ways to find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torBase: A genome resource for arthropod vectors of human pathog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ectorBase Manual and Community Annotation Submission 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terflyBase: A framework for comparative genomics in butterflies and mot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6019920"/>
            <a:ext cx="3429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gmod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Got dat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92240" y="5791320"/>
            <a:ext cx="1255680" cy="923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3960" y="762120"/>
            <a:ext cx="13406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U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Fle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tl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id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erfly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conius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npAnnot-L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undreds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MOD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c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7:30:39Z</dcterms:created>
  <dc:creator>GMOD / NESCent</dc:creator>
  <dc:description/>
  <dc:language>en-US</dc:language>
  <cp:lastModifiedBy>GMOD / NESCent</cp:lastModifiedBy>
  <cp:lastPrinted>2008-04-09T18:43:59Z</cp:lastPrinted>
  <dcterms:modified xsi:type="dcterms:W3CDTF">2008-04-09T18:44:14Z</dcterms:modified>
  <cp:revision>12</cp:revision>
  <dc:subject/>
  <dc:title>PowerPoint Presentation</dc:title>
</cp:coreProperties>
</file>